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6ADFD-B5C0-44E7-B85C-0B319051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69FC4-4090-4BC9-8BD2-316BB49F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B8261-47EA-4ADD-8F95-80F51A95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61C1B-A207-437D-8F3C-98871EA0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B118-9567-4994-B3E4-5E31B65E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C65C-484B-4DBC-86C5-502D32B2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E659-3244-46EE-BD50-F641EECF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AD90-336E-429B-98FF-17B888BB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3DA5-B7B2-418D-B71B-EB28FB77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B6E8-389B-4858-8A20-4FD959FC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3EC2-C311-41C9-8423-329ACF47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2AD8B-B4F3-4511-9D2F-1E51B7CD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2B13-3010-432D-96B3-739DE50E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C24B-B768-4DBF-8308-84002434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B44B-35E3-4C8E-8979-8699D123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E14C-1DFF-4324-A211-2D575FBD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DFE8-13C4-4A94-B82D-020D9D1A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A5DF-8EDB-447B-BB4F-0D562287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4A70-8FC9-4470-85FA-9A5335B0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E46CE-7526-4281-9B75-28708985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D0B82-12DB-46DF-A524-9BFD0372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D4DE9-914D-476B-A9AD-1597B97B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7B941-E6EA-418C-A6E5-5EBCD1FE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847E3-0274-46D2-B913-7BDC552D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5041-EEE6-4CC1-8082-932B4BC4C3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6FB7-EC39-4060-BC64-3512905C2E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5640" y="1752480"/>
            <a:ext cx="617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 2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 SUPPLY, USE AND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re do we get our water from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Groundwater and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ere surf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seeps down into ground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surface of groundwater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Most water evaporates (66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Rain and runoff patterns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uge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 / Ca S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cre foot = 326,000 gallons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g use per person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ndwater is stored in Aquif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Worldw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y prov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If more removed than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d  by inflow get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gallala Aqui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irrigation area in Western Hemi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harged by rainwater/snowm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lains = semi-arid (minimal recha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962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gallala Aqui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ds: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Better water conservation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Biggest us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Electricity gene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rrig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Indus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Public and 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CON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mprove agricultural irrig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Encourage domestic con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Encourage more water recycling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315200" cy="5562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alton S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alton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ma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ton Sea: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36576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g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ral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229440" y="6400800"/>
            <a:ext cx="445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2280" y="228600"/>
            <a:ext cx="147816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ral Sea is drying up and dying as a result of diversion of water for agricul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8120" y="46080"/>
            <a:ext cx="8975880" cy="5365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5800" y="5562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 Aral Sea being restored slowly, South Sea abandoned, poorer country (Uzbekistan) predicted to be totally dry in 15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 Lake, Califor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 L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California"/>
          <p:cNvPicPr/>
          <p:nvPr/>
        </p:nvPicPr>
        <p:blipFill>
          <a:blip r:embed="rId1"/>
          <a:stretch/>
        </p:blipFill>
        <p:spPr>
          <a:xfrm>
            <a:off x="123840" y="46080"/>
            <a:ext cx="604836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STAINABIL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WATER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practic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ustainabl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llow growth and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ociety without degra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logic  cycle or 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gricul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65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Water mgm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and the environ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Transporting water requ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and a way to m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Dams, river modification, we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lamation must all be revi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Must consider all views; farm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ermen, environmentalists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086600" cy="3504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295280" y="3962520"/>
            <a:ext cx="64771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ost wetlands lost in past were due to agricultu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heaviest loss was between 1950 and 1975 where a half million acres were drained each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ost wetlands lost today are due to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tland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1680" y="390600"/>
            <a:ext cx="5735520" cy="6188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7120" y="5691240"/>
            <a:ext cx="3051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ocal Supplie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ndwater &amp; Recycling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36000" y="4556160"/>
            <a:ext cx="2506320" cy="1714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33" y="14253"/>
                </a:moveTo>
                <a:arcTo wR="10800" hR="10800" stAng="1118793" swAng="3862922"/>
                <a:lnTo>
                  <a:pt x="10800" y="10800"/>
                </a:lnTo>
                <a:close/>
              </a:path>
              <a:path fill="none" w="21600" h="21600">
                <a:moveTo>
                  <a:pt x="21033" y="14253"/>
                </a:moveTo>
                <a:arcTo wR="10800" hR="10800" stAng="1118793" swAng="3862922"/>
              </a:path>
            </a:pathLst>
          </a:custGeom>
          <a:noFill/>
          <a:ln cap="rnd" w="50760">
            <a:solidFill>
              <a:srgbClr val="ffffff"/>
            </a:solidFill>
            <a:miter/>
            <a:head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33520"/>
            <a:ext cx="732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Southern Californi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s its Water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43520" y="2476440"/>
            <a:ext cx="248112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ocal Suppl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Aque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 rot="16200000">
            <a:off x="2725920" y="3847680"/>
            <a:ext cx="4323960" cy="20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52"/>
                </a:moveTo>
                <a:arcTo wR="10800" hR="10800" stAng="-15381" swAng="4181790"/>
                <a:lnTo>
                  <a:pt x="10800" y="10800"/>
                </a:lnTo>
                <a:close/>
              </a:path>
              <a:path fill="none" w="21600" h="21600">
                <a:moveTo>
                  <a:pt x="21600" y="10752"/>
                </a:moveTo>
                <a:arcTo wR="10800" hR="10800" stAng="-15381" swAng="4181790"/>
              </a:path>
            </a:pathLst>
          </a:custGeom>
          <a:noFill/>
          <a:ln cap="rnd" w="50760">
            <a:solidFill>
              <a:srgbClr val="ffffff"/>
            </a:solidFill>
            <a:miter/>
            <a:tailEnd len="lg" type="stealth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11040" y="5715000"/>
            <a:ext cx="220716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servation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532400" y="4977000"/>
            <a:ext cx="2507400" cy="130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593" y="15353"/>
                </a:moveTo>
                <a:arcTo wR="10800" hR="10800" stAng="1496147" swAng="6175383"/>
                <a:lnTo>
                  <a:pt x="10800" y="10800"/>
                </a:lnTo>
                <a:close/>
              </a:path>
              <a:path fill="none" w="21600" h="21600">
                <a:moveTo>
                  <a:pt x="20593" y="15353"/>
                </a:moveTo>
                <a:arcTo wR="10800" hR="10800" stAng="1496147" swAng="6175383"/>
              </a:path>
            </a:pathLst>
          </a:custGeom>
          <a:noFill/>
          <a:ln cap="rnd" w="50760">
            <a:solidFill>
              <a:srgbClr val="ffffff"/>
            </a:solidFill>
            <a:miter/>
            <a:head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4650800">
            <a:off x="5459040" y="4939920"/>
            <a:ext cx="412920" cy="996840"/>
          </a:xfrm>
          <a:prstGeom prst="ellipse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8293200">
            <a:off x="2768760" y="3468240"/>
            <a:ext cx="939600" cy="1704960"/>
          </a:xfrm>
          <a:prstGeom prst="ellipse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5882600">
            <a:off x="1931040" y="2005920"/>
            <a:ext cx="301680" cy="728640"/>
          </a:xfrm>
          <a:prstGeom prst="ellipse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31800">
            <a:off x="4385880" y="5199120"/>
            <a:ext cx="301680" cy="412560"/>
          </a:xfrm>
          <a:prstGeom prst="ellipse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24160" y="3543480"/>
            <a:ext cx="114120" cy="114120"/>
          </a:xfrm>
          <a:prstGeom prst="ellips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5181480"/>
            <a:ext cx="114480" cy="114480"/>
          </a:xfrm>
          <a:prstGeom prst="ellips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5638680"/>
            <a:ext cx="114120" cy="114480"/>
          </a:xfrm>
          <a:prstGeom prst="ellips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5486400"/>
            <a:ext cx="114480" cy="114480"/>
          </a:xfrm>
          <a:prstGeom prst="ellips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651640"/>
            <a:ext cx="114120" cy="114120"/>
          </a:xfrm>
          <a:prstGeom prst="ellips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5791320"/>
            <a:ext cx="114480" cy="114120"/>
          </a:xfrm>
          <a:prstGeom prst="ellips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38760" y="3808440"/>
            <a:ext cx="25052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lorado River Aqueduc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657760" y="3952440"/>
            <a:ext cx="2532960" cy="276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62" y="414"/>
                </a:moveTo>
                <a:arcTo wR="10800" hR="10800" stAng="-4444944" swAng="4444944"/>
                <a:lnTo>
                  <a:pt x="10800" y="10800"/>
                </a:lnTo>
                <a:close/>
              </a:path>
              <a:path fill="none" w="21600" h="21600">
                <a:moveTo>
                  <a:pt x="13762" y="414"/>
                </a:moveTo>
                <a:arcTo wR="10800" hR="10800" stAng="-4444944" swAng="4444944"/>
              </a:path>
            </a:pathLst>
          </a:custGeom>
          <a:noFill/>
          <a:ln cap="rnd" w="50760">
            <a:solidFill>
              <a:srgbClr val="ffffff"/>
            </a:solidFill>
            <a:miter/>
            <a:tailEnd len="lg" type="stealth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2880" y="4205160"/>
            <a:ext cx="18489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WP 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itlement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1520" y="1677960"/>
            <a:ext cx="358128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ransfers &amp; Storag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 rot="16200000">
            <a:off x="1472040" y="3261240"/>
            <a:ext cx="4935960" cy="209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66"/>
                </a:moveTo>
                <a:arcTo wR="10800" hR="10800" stAng="212272" swAng="4140813"/>
                <a:lnTo>
                  <a:pt x="10800" y="10800"/>
                </a:lnTo>
                <a:close/>
              </a:path>
              <a:path fill="none" w="21600" h="21600">
                <a:moveTo>
                  <a:pt x="21579" y="11466"/>
                </a:moveTo>
                <a:arcTo wR="10800" hR="10800" stAng="212272" swAng="4140813"/>
              </a:path>
            </a:pathLst>
          </a:custGeom>
          <a:noFill/>
          <a:ln cap="rnd" w="50760">
            <a:solidFill>
              <a:srgbClr val="ffffff"/>
            </a:solidFill>
            <a:miter/>
            <a:tailEnd len="lg" type="stealth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05120" y="1576080"/>
            <a:ext cx="1494720" cy="309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08" y="15098"/>
                </a:moveTo>
                <a:arcTo wR="10800" hR="10800" stAng="1407064" swAng="3574651"/>
                <a:lnTo>
                  <a:pt x="10800" y="10800"/>
                </a:lnTo>
                <a:close/>
              </a:path>
              <a:path fill="none" w="21600" h="21600">
                <a:moveTo>
                  <a:pt x="20708" y="15098"/>
                </a:moveTo>
                <a:arcTo wR="10800" hR="10800" stAng="1407064" swAng="3574651"/>
              </a:path>
            </a:pathLst>
          </a:custGeom>
          <a:noFill/>
          <a:ln cap="rnd" w="50760">
            <a:solidFill>
              <a:srgbClr val="ffffff"/>
            </a:solidFill>
            <a:miter/>
            <a:head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53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38052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nefits an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to be multi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vironment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ardar Sarovar Dam, 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6640" y="1981080"/>
            <a:ext cx="7469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924680" cy="4952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09680" y="2286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Gorges Dam in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9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anals and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dangerous; drow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water borne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ization = Widening, deepen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traightening of natural chann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Photo of California Aqueduct"/>
          <p:cNvPicPr/>
          <p:nvPr/>
        </p:nvPicPr>
        <p:blipFill>
          <a:blip r:embed="rId1"/>
          <a:stretch/>
        </p:blipFill>
        <p:spPr>
          <a:xfrm>
            <a:off x="914400" y="3352680"/>
            <a:ext cx="7467480" cy="2743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9092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lifornia Aque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543800" cy="42670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56840" y="1980720"/>
            <a:ext cx="4033800" cy="1871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56840" y="3995280"/>
            <a:ext cx="4033800" cy="1871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652640" y="1980720"/>
            <a:ext cx="4033800" cy="38862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Periodic flooding is heal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Problem is if people build h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floodp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is im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ado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groundwater from North and Central OC (small amt. recycled waste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19920" y="640080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228600"/>
            <a:ext cx="5181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20.23  The Colorado River bas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3880" y="803160"/>
            <a:ext cx="624852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 of the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22 law initiated (7states agreed how to share the river’s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based on higher flow rate (16 million a.f. annu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 – ring studies show severe droughts have existed in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rought started in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servoirs projected to be possibly dry within 11 - 19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Global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Get % from text (remember dem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vailable runoff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cces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use incr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ed to go beyond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availability by 20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19920" y="637524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42920"/>
            <a:ext cx="3809880" cy="103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undwater and surface water flow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334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638680" y="152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 onto Q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 and provide function of each on your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where ground water see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to surface  (ie: springs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ver groundwater can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ed at a useful rat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s fed by rai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s fed by groundwater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1:54:56Z</dcterms:created>
  <dc:creator>Amy Chan</dc:creator>
  <dc:description/>
  <dc:language>en-US</dc:language>
  <cp:lastModifiedBy>tosborne</cp:lastModifiedBy>
  <cp:lastPrinted>2002-11-08T17:22:22Z</cp:lastPrinted>
  <dcterms:modified xsi:type="dcterms:W3CDTF">2011-02-22T23:00:49Z</dcterms:modified>
  <cp:revision>45</cp:revision>
  <dc:subject/>
  <dc:title>CHAPTER 19 WATER SUPPLY, USE AND MANAGEMENT</dc:title>
</cp:coreProperties>
</file>